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5ED0D-6FB4-489C-A41A-08C7D404A6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A9B71-02FC-4FC6-9AED-09393A294D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8160A-D15D-438A-888C-664316DBA9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7BBE6-EF6F-4E78-8858-1781402992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7ECA6-58B2-45DB-9210-2537ACE3CA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4EEC3-2B0E-4154-95D3-5DC96F3CB7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4F417-9416-44E1-80C5-E7F1FDA67F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DAF81-7F2C-4555-9EA7-901C905370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A17EA-FD68-4B77-9A6E-532B90777E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4983C-8E87-4A51-B3BA-84E22BAAAD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5C2E8-BBC4-424B-9761-D0CB74549C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50603-5533-48CA-BDCC-28E8CB270A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3C4D2-E367-484E-A9E8-2AB49E8568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38D60-7E3C-420F-96D3-BCF09683DA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EFA0C-05C3-4143-9B31-96E7E6F09D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E6138-3A7C-46D7-8287-F059EDBDF5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6840E-BE21-461E-A15C-6B38F56140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C2B4D-6D8A-42B8-9807-092B132383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D8794-2616-423F-AA59-108BCAF81F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B0E6B-0F20-453E-AFF1-6D164B5A8A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4CCE6-FE40-4809-B43F-4836285DAC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DBA0E-DC4A-4A26-A223-AAE6DDBA02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EFB04-DD72-48EA-8540-9E533E565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8AFDC-D55A-4741-BAF0-439E6EDE21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5A8C2F8-44C6-4FA8-92E6-10C4A434E37A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A88EE91-2E61-4E31-9338-79B77AA72E56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E0AA96F-C3D5-4703-A005-662AE16A60A5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08714B5-F05F-453D-83F2-75B2E7E34095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soton.ac.uk/~cpd/anovas/datasets/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rField" TargetMode="External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7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is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comparing two group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= group difference (=sid) /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at is the smallest interesting difference in your expert opinion? (si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s.d. from previous work (can’t contro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.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ar 1.0              &gt;3.0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cancer sibling study: 222 possible to sample but 80% response rate and gender matched siblings wil reduce sample past 120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41400" y="1600200"/>
            <a:ext cx="726120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rFiel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Administrator</cp:lastModifiedBy>
  <dcterms:modified xsi:type="dcterms:W3CDTF">2009-07-15T15:56:23Z</dcterms:modified>
  <cp:revision>190</cp:revision>
  <dc:subject/>
  <dc:title>8: SAMPLE SIZE DETERMINATION</dc:title>
</cp:coreProperties>
</file>